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2EE11A-66B7-4AC7-8E77-BBEA944543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C5F6F1-96E5-40A9-BC43-19D84CE906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F01B5D-5667-4740-AE06-8D8042E27F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8C235B-FBE4-443D-8A96-C8BFB30D9A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604FB51-1AD1-43B1-AA2A-1E3AEBA4387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7A6705-2E05-4579-9026-E9AE09DF39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DCB4E1-4A64-48F7-9166-0104DFAE00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B680AC-1B3D-4DB4-9FFA-825B5E88F7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555206-89F8-439D-905B-8EE58DA9A7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52CAD7-1A5F-4443-B28C-8FE98526F8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B63A54-D234-454E-9517-E8DBB9AE96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42EAC8-4257-4936-93C4-3CA345AE26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A51D08-D7C7-496D-B5F6-96CB4A7B0A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035BC1-9323-4176-8065-E8DFD93175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8BDEE9-026C-4F7E-8020-074E1CED51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0EAE0EC-6E79-41EB-B3C9-43567E44B43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7C237B6-0068-4E1B-9677-9450B942F96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C8EFD9-C06E-4C6E-9AE3-1342E22904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84D9F1-86B0-4858-B4B8-03C05D55FC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A15D32-3834-477D-AC3B-974DDD0D06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902C96-8440-4E1C-BA52-1FFB29D35D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3F4883-B613-43FB-9234-C9D2AEE2C9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FED10C-21CC-4275-87A4-FB95B1E677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69E8D5-A2DA-447F-8F35-D05983B19B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1A081E-0195-416E-8A31-88282CDC4B1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6BBDAA-5F86-49A0-A756-BBA084EF0C0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81AA0C9-AA26-476F-A553-C00E4AEC6F5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6B86F71-8E53-41E7-B88C-2215F9DF5DED}"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35B0EB-F862-48B9-97E0-F39BE349EC21}"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9CC8AE-93DA-4262-9BD9-050B9F96DC2C}"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583238-F103-4895-B639-14491F5AC78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2C582A-8824-4CD8-B09D-EBC4581BEC3D}"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4FF8C6-5DA0-47EB-B0AD-629036D66409}"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0816BA-7864-4008-94BB-007F241BB503}"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27EF89-B2C1-44AB-B6B9-22550D455491}"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1DAC87-9026-4B65-A2BA-DDCACFD128BB}"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455EEA-4C29-4389-A0FA-51EBA9626295}"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C854A8-93A6-4B26-A503-3E0B90DA3752}"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CA41D7-C57B-4783-B352-6D53CCA32DAE}"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B75D48-E7FE-4B7F-990D-90AC7D566BF1}"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E606F5-C9AF-4AA4-A0AB-E28EDF1FD867}"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F9B1B6-F3B4-4457-9D10-481310D75B80}"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48FB73-2C87-4C92-BE1F-8FF29CA03E07}"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2760BC-9CD4-4B11-B20A-4CE90CEDB385}"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0E8A74-D826-4ADB-9B2F-FE0DBCB9E8A7}"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015790-7F1A-4F2E-ADFE-684ABD35008A}"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4E05D9-CF72-42E6-A9F4-C6C3FE546FB0}"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0D8A9D-4C21-4661-80DA-D74A257CBD16}"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7E0C48-2F38-4C62-A632-027A92019147}"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39ECA5-D728-49DF-A706-A39762CE1385}"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80301E-97B7-43B2-A9A1-F7D6F755D98C}"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D3EC9F-CE15-4F7A-9AEC-CC01A2847E62}"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C312D8-365C-4BD9-864D-AC5877BC7781}"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5B0D058-A47D-4314-BC7E-9F497536F671}"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DDDC4F-EE7D-4582-947A-B65681F613F8}"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F6A878-BFE7-43A1-9741-0DFA4AB1CAB7}"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C25095-4CE6-4D7D-9DEF-0F0FB4DDA910}"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75DF41-D498-42D2-B34B-85BD9D7539F0}"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233C78-3491-4C27-B1E9-79DEFD89CF54}"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57206B-0564-4400-B249-93D7D5D4BAAD}"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C29517-10D0-454B-9ACE-16ADCC9FACEE}"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3FFF38-FDB3-4EDF-BF7E-E9D10CE71EC3}"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F0FB81-CB11-4BA5-B383-61A8C7CED544}"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318408-6774-472B-8A67-487ED39A950F}"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EA08C6-845D-4412-9144-F7EE9B34838C}"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6D2CFE-E050-448F-A87D-989B4EF8C987}"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5C8C5E-F308-4BAF-BF23-F9AC193CF823}"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C084C2-AEC5-45E5-839B-541E3345677A}"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22FA83-13DB-4B21-AEC5-18C32B2A2B7B}"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362244-86E9-4B28-8245-3D908ECA0543}"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4CA364-9D91-41F6-9FD6-62B093EE7095}"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3355D5-5A82-4DF4-91E3-B461B8828136}"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0885F3-E57E-40DD-A9A2-9DA20C7678F3}"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49DB78-F332-4291-A91F-DA16D0545E6A}"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332721C-942C-434C-86C6-3ADA564A9758}"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465C43-E8EE-401B-8C06-F2A924641B42}"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64B42C-3B0C-4DAC-AC59-2B121B8C133A}"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5B15E8A-80FE-4969-AF79-199E5E3499A7}"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C339E0-3E6C-4B1E-8B9B-7F133191371F}"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3BC828-F79A-4576-8ECF-16DC7B37FA6C}"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5EE910-2724-4130-8292-5B8F1BC7E505}"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3D0611-FDDA-4A9F-8714-246117F993B9}"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3220DE-BCE9-431D-8E1D-3CA9BC23FCCF}"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A37479-8942-4813-A5CF-378A957BD35C}"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BCA406-FA96-49FD-971E-C42114812212}"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B641FFD-46BD-46BE-978F-0A1B213E4397}"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1E1B1A-9D23-4A58-8CF9-61D271C62B51}"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07356B-3FDD-4E91-81D3-C3F8F1535C72}"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16F93D-C39B-4E71-B53B-33639895BEDB}"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1DD56A-9286-466A-91DA-A43D401443B3}"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B4C5EE-9271-4AA5-ACF3-2B0F385EC042}"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C592EF7-5DD3-4D76-BB8B-DFD94A4885B0}"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1163E4-0EEF-4CD2-8ADB-29A64236D1D0}"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1B64E1-E73E-45A7-94F1-0F0ED21654F2}"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1EE7A1-285B-41BD-A761-4530063C4712}"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A951A3-F23E-43E0-B68F-04B49295644B}"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9EC7526-8721-45B8-BBA4-8C211D19ED16}"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824336-C7BC-43EC-A62C-CE9D10A346F7}"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B6BB5C-1FD3-46A9-A928-2B8D0BF5E099}"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407ABF-7DD4-4328-8BDC-70D52E2EFC34}"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9E3461-790A-4A3A-9510-AEF7B0D20BF2}"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BC29E1-C294-4EB5-B4C4-727C8E462640}"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CEA8D2-6BAE-4112-85CD-71BC21689B5A}"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7909F4E-4C7F-4D2D-9EC8-BEDEB9D336D9}"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0BB2F6-8092-4FA6-AD44-E7FE912C1AFC}"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2BF653-182F-423F-81C2-8BED6D84D151}"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5D1351-CA1C-4E18-8F5F-29F98E83A54C}"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E5096BC-688C-4B82-973E-AD5C5E24DBE9}"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681B62-975F-4E13-9247-8B1C8F84B1B1}"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9EBF72D-B3CE-407D-AC3B-3843668F1BC8}"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76B17E-D2E9-4ABE-9FA1-C49851AC895F}"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B6E4D7-15B8-45AA-881B-B3667EDD4986}"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CEFA88-0831-4128-A2E3-A2769377AE8D}"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22FDA6-07C6-470B-85BA-014DECD715F8}"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F43164-BDE6-42A1-8A35-FA8C466F7FC6}"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1856B1-9E0F-4685-9903-4E2F78496E7E}"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DCE76C-2759-4589-9F2C-D594630DD8F6}"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FAC300-3EAF-44C1-ACE9-DF7886E8B71D}"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6BAD38-2D8E-4142-B9B2-3FAA3FB0E9AB}"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3C1908-B890-449B-9393-1A3F2FCE4448}"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D03D3E-DC8D-4C86-8907-153459A72979}"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B36BC2-61DB-4A85-9083-7B6F4B1ECD73}"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97CEF5-B3A5-4204-A5AD-66AA8B03E92E}"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D1A3AE-51AE-4902-9422-43ACCF027B28}"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701CEF-4A84-4F69-B1B5-4EA1BC36611E}"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E29CD72-1AC7-4977-8F5E-15DE20A5421C}"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58997C-03E4-4B22-9A70-04F43ABA16E0}"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022A2C-E368-4727-9319-01E2626B4A17}"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9A1B42-6DB4-4A4C-BC03-39596DFFE3B6}"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7C30A6-77B0-4245-B826-3058B8EDD254}"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CCD36C-5E8A-4730-A7B9-1CA9C1153343}"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E4802E-F92B-429D-B3E4-ED217BA11941}"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431B04-66D7-41EB-BF51-D934F1B673D8}"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FEB01D-674E-4EC9-8C8B-28A917241D69}"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782364-69D0-4E18-B67A-A1952937ECAB}"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DB6F28-BE07-42D0-8609-2C5F3214A643}"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1F8E41-B436-4C63-8EFE-2E70ABECA911}"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BCA02B-D702-4E48-B6F0-F08976913D8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E55CAC-56D9-4D5F-9260-A15504AEF559}"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29ACF0-B6F9-46CD-B377-E2F3425159BB}"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DBEEBB-F054-4EC4-8694-82B1FE4029DB}"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917372-C0DB-4D22-BB7A-AE569FC6FEC3}"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89B4E5-CC62-4B90-BB36-789039C666BB}"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1A3005-8B54-414F-B126-9BBB7A636607}"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BA96C5-463D-4F6E-9382-68C915E01CCD}"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10A04C-B64A-4EDB-AF8D-8441D84A39A6}"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0487D7-A494-4D55-B31C-3EAF5E3C36E2}"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B94EE5-5836-45D9-90B0-75DFE7FB0E1C}"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21DCFC-C2B1-4D4C-95D6-EFF88AAB1001}"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6B741B-DC6F-4147-A89C-E9EEE7C25EE7}"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5AB4E1-3CED-4E09-8D0F-6D4ED453B47B}"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F9F208-97B8-4A78-9987-047A434B7A90}"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7A621A-793D-49E8-8CBC-49E91EA42789}"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B34A298-4C1B-4A12-A33A-CCD56EDB4E0D}"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1B23AD-82E8-4B1B-A0E4-5F808849636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50B99D-2378-4139-BEE3-609E0EB7A4E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666C5B-8CC4-4F69-AACE-A24BA4E306D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423A93-F141-4E12-8FC7-A61C1AFC8E8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317315-B91D-44C9-AE51-CC260F431F2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AB3631-17A9-4E6D-8808-D326C3B3574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28D3BA4-B4FE-4FA8-84EE-6161C1676F3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74B9F2-1CDB-48C9-9509-DA049AC879E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91336E-FC84-40B8-9F1C-3A58ABB2AA7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B1F5D4-EB77-4EE7-BBBC-79CC26C8A5D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4851B6-AF80-492F-BAD1-98657D10057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3DAB87-3B18-4399-9FBB-7F69F273300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C5AACF-5AFA-487F-8391-B6C561F378A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5CB4F7-4B28-4A4F-803D-DE760BF9DFF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56021C-2CE8-4553-81B1-F6EA66F401F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B25581-CCB6-44AD-8384-C8FCF1069FF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B70220-7191-4207-A81A-75D931642CB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698769-B181-45C9-A3F1-D001EF57569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FB8F47-7AC9-462D-8983-FE2B76E67B8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7CF5CD-6E41-4596-8A0B-AA0BCCC27E7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D5FE97-175F-4E04-834A-E33C0B84F05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894042-AC2B-43A3-8B25-F4B42FD7582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59ABD7-0A1C-4B86-BBF5-578DEF02D74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E72DAE-5256-469A-BF48-EFE1F4964FD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940853-E881-4712-96A3-DE65133F86D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5A9FE0-671D-487D-91E5-0E3CCBE1570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27C713-2649-4B99-9D68-1B2969773B1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143989-7A0E-40BB-82C5-813E35E2F9A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36D9EF-5F70-4F20-83EA-9235B9FC488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F2CC6E-4DC4-4576-9C2B-75A2770396F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7547AE-B17B-4D52-8E78-39CB37E7BA4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535D6D-60E4-4794-9513-689519971E4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642E8A-FB3E-4B48-9F9D-9981810EE93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38AFD7-7384-46D2-83BD-F33CD9A039F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C048FD-1C1B-484F-8628-C7C4B168FDC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E1C3F8-1DBE-4587-8047-0B636B3B2C9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7E7F04-CC40-48B7-AA78-9DE5FB9FF7C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6CAD23-2C74-48BC-9792-FA22769E31F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42B450-B5A9-4A13-87DD-B15A8A42E2DB}"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26D7F2-C4AF-4975-9D80-AD1A41BADAD2}"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BDE1BA-3450-4028-A53C-0DCCA9A7D482}"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22EBF8-32B5-4F1F-8067-373B2D611DA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CC082C-D8C6-4B18-B98D-80716659CAAB}"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B5DE95-AE70-4C67-B689-D8A28447A3C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7ABF7C-51F3-4504-90FA-C143AB9EE509}"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DCB816-6124-4076-A0D1-DEE4353D2E00}"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9B01BE-6B9A-4E03-AC69-0B1298AFA86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D48E266-BC84-45FF-B00C-25A20EFC318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2B7599-1D57-4294-B35C-6F65EF00FCA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529516-7D8B-44E9-A9DF-709E2269D6D8}"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3D21F9-606F-4FC1-9EAE-770DB4785A3E}"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B4E6AB-CFF2-4579-8F16-9085F02B7D0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DF1495-8951-42F3-8915-DC797ABE5559}"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1A4068-8FA2-4E73-802E-44904CC2DE6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89A0BA-C21A-4F4C-9166-77FACEC93E6F}"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B58CEC-6CA6-4FD2-8FF8-87859C8CD73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75A09A6-BB36-4F9C-BDB8-6FEDCB2CFED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096524-AF01-4439-9390-05B5AAC0B72E}"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44A960-B03C-4901-9288-1B0CBAECA09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A8A8EB-95DF-4064-B878-5C7F2203585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3482C9-86E0-4214-9AF8-CB1842DEB4DA}"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403A88-5B1F-4707-B545-AD886173D282}"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F0B702-7A60-494B-A137-BF9EF58E207E}"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8C77A2-8D38-42EF-8E5C-7659C7A98D8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75094B-4CEC-4087-9971-394C66C6FCCB}"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F9AC59-9A5C-4B56-B503-8B32FE701740}"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7E4510-4CCA-4E91-988D-771C34A6906C}"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95DD13-D8AD-414D-A42B-91225F97D47E}"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01C8CB-74C6-4A61-884B-79F025867A1B}"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C52A97-7402-4958-99AC-84BD5AFA7AAA}"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53E85B-20C2-457B-A25C-A6B9AB40D59D}"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C0F0EC0-F17F-47DE-B297-3F89034988A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3FF610-A391-4D6C-8494-AEFE1C4E7368}"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9F5216-BE5F-43F7-89BC-2CD6EAA1C1A7}"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FAC103-6DAE-4176-A18C-CE43E047D868}"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BD552E-ABA3-4F43-8BE5-6D8C6CA2D0E2}"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4277D4-BA74-4644-BE35-BCA82DF6855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396F33-B6E6-4673-BED1-14EF463AD802}"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45DA20-B126-4D30-950F-D165798C3429}"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32048C-79A2-4E4D-87E6-104DB1025F8F}"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BBA303-ED8C-423D-A1FE-D632AF593E67}"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6BDABA-558E-4204-86BA-07A0388CC7C9}"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F7750A-93E8-4D81-A447-F64A7F6F405C}"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AB1AFD-9573-4B9A-9B25-C2308EB413D1}"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9BA0AE-506C-44C5-B8A4-C2FF9B8C1123}"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